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E302E98-EAA5-4B3C-A357-E22CABBEF9B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F4ADB3E-F74F-4867-93EA-EDA2A0A43B4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b">
            <a:noAutofit/>
          </a:bodyPr>
          <a:p>
            <a:pPr algn="r"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F8ABE32F-AE50-4E3A-B45A-DC508CAAAC6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640" y="4387320"/>
            <a:ext cx="5608800" cy="41562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s Hutchinson River Parkway, Cross Bronx Expressway and New England Thruway to Cross Island Parkway, Van Wyck Expressway, LIE, and Grand Cen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3A0ED2D-75AB-4182-929D-3E570F856C0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902CEC09-5C37-40EF-9E88-E3CE894538A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5AEEAF4-CD22-4677-AF42-B801B8873B1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E76C3E9D-58B3-418A-B0BE-ACDA6E771EE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06A-0705-4227-92EC-2B03261F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9520-27C9-480D-8217-8663A653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C54-F677-458F-9B25-41D0C29B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1FB0-7228-4815-BE58-191EEB7F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EAA2-6173-4617-98DE-575D478C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046-EDE1-4EDC-B40E-91E76C50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DDCF-E087-4D9F-81B1-3751DAC4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774C-0F12-4D27-9DF0-76D949BD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05EF-AF1A-4E37-9DB4-9B0D6478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5AB4-F994-4EF1-B810-B2E5B773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054C-0770-4253-A2BD-C11ACF1B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F4B-F18F-4BBD-BE49-7BF3EF2C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3DC9-781D-496D-952A-4C2F0B5E1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BRONX16"/>
          <p:cNvPicPr/>
          <p:nvPr/>
        </p:nvPicPr>
        <p:blipFill>
          <a:blip r:embed="rId1"/>
          <a:stretch/>
        </p:blipFill>
        <p:spPr>
          <a:xfrm>
            <a:off x="1297080" y="0"/>
            <a:ext cx="6627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066680" y="307080"/>
            <a:ext cx="7086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Replacement of the Queens Approach Bronx-Whitestone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447920" y="2971800"/>
            <a:ext cx="6095880" cy="794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Risk Assessmen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A668-5CF0-4D40-AB0D-FFB645EAF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228600" y="4495680"/>
            <a:ext cx="2209680" cy="2439360"/>
            <a:chOff x="228600" y="4495680"/>
            <a:chExt cx="2209680" cy="2439360"/>
          </a:xfrm>
        </p:grpSpPr>
        <p:graphicFrame>
          <p:nvGraphicFramePr>
            <p:cNvPr id="54" name="Object 5"/>
            <p:cNvGraphicFramePr/>
            <p:nvPr/>
          </p:nvGraphicFramePr>
          <p:xfrm>
            <a:off x="564840" y="449568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449568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Text Box 6"/>
            <p:cNvSpPr/>
            <p:nvPr/>
          </p:nvSpPr>
          <p:spPr>
            <a:xfrm>
              <a:off x="228600" y="610956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Bridges 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Cost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338120"/>
          <a:ext cx="7925040" cy="4422960"/>
        </p:xfrm>
        <a:graphic>
          <a:graphicData uri="http://schemas.openxmlformats.org/drawingml/2006/table">
            <a:tbl>
              <a:tblPr/>
              <a:tblGrid>
                <a:gridCol w="3124440"/>
                <a:gridCol w="1676160"/>
                <a:gridCol w="3124440"/>
              </a:tblGrid>
              <a:tr h="17647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610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to address mitigation of Community Sensitivities such as noise, and construction related environmental iss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outreach with the community and elected officials, anticipate and address mitigations, such as noise wall installations, and employ extensive site debris manag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6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resulting from construction delays, such as security and  traffic challeng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dite evaluation and processing of warranted change orders related to delays eliminating any impact to construction progress/schedule.  Continue to review and revise MPT staging to expedite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769C-059D-44B7-817E-D234FC364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Schedule 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48320" y="1600200"/>
          <a:ext cx="4038480" cy="3992400"/>
        </p:xfrm>
        <a:graphic>
          <a:graphicData uri="http://schemas.openxmlformats.org/drawingml/2006/table">
            <a:tbl>
              <a:tblPr/>
              <a:tblGrid>
                <a:gridCol w="2001600"/>
                <a:gridCol w="800280"/>
                <a:gridCol w="608040"/>
                <a:gridCol w="6285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85800" y="1447920"/>
          <a:ext cx="7772400" cy="5010120"/>
        </p:xfrm>
        <a:graphic>
          <a:graphicData uri="http://schemas.openxmlformats.org/drawingml/2006/table">
            <a:tbl>
              <a:tblPr/>
              <a:tblGrid>
                <a:gridCol w="2719440"/>
                <a:gridCol w="2247840"/>
                <a:gridCol w="2805120"/>
              </a:tblGrid>
              <a:tr h="1663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720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(or different) Maintenance of Traffic needed to accommodate traffic de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ly monitor traffic conditions and be pro-active with correction/ adjustments of MPT/ staging.  Coordinate with NYCDOT and NYSDO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520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der placement problems (Site logistic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 and ensure Contractor’s means and methods are efficient to eliminate potential delays related to Girder placement.  Use lessons learned from Bronx Approach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92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nticipated structural maintenance repai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e and aggressively evaluate and inspect existing structure during construction to limit/eliminate resulting delay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B711-4D6D-4E40-BED2-6876FE693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XT STEPS PRIOR TO CONSTRUCTION CONTRACT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Bid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Contractor Qualification 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Bid Analysis and determine recommendations with respect to low bi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6798-AD0C-42E7-A44A-5D82238ED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2306032357_8643f105e0"/>
          <p:cNvPicPr/>
          <p:nvPr/>
        </p:nvPicPr>
        <p:blipFill>
          <a:blip r:embed="rId1"/>
          <a:stretch/>
        </p:blipFill>
        <p:spPr>
          <a:xfrm>
            <a:off x="-44280" y="533520"/>
            <a:ext cx="9188280" cy="55497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A510-2793-47DB-907F-F08EBE0F6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228600" y="3657600"/>
            <a:ext cx="2209680" cy="2439360"/>
            <a:chOff x="228600" y="3657600"/>
            <a:chExt cx="2209680" cy="2439360"/>
          </a:xfrm>
        </p:grpSpPr>
        <p:graphicFrame>
          <p:nvGraphicFramePr>
            <p:cNvPr id="160" name="Object 5"/>
            <p:cNvGraphicFramePr/>
            <p:nvPr/>
          </p:nvGraphicFramePr>
          <p:xfrm>
            <a:off x="564840" y="365760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1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365760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Text Box 6"/>
            <p:cNvSpPr/>
            <p:nvPr/>
          </p:nvSpPr>
          <p:spPr>
            <a:xfrm>
              <a:off x="228600" y="527148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ridge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380880" y="2286000"/>
          <a:ext cx="84582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8458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4"/>
          <p:cNvSpPr/>
          <p:nvPr/>
        </p:nvSpPr>
        <p:spPr>
          <a:xfrm>
            <a:off x="232920" y="4038480"/>
            <a:ext cx="73080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081280" y="3962520"/>
            <a:ext cx="82548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5486040" y="1905120"/>
            <a:ext cx="30481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0" y="152280"/>
            <a:ext cx="9144000" cy="7038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Bronx Whitestone Bridge Sequence of Major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Past-Present-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5562720" y="3200400"/>
            <a:ext cx="1371600" cy="838080"/>
          </a:xfrm>
          <a:prstGeom prst="rect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380880" y="1055520"/>
            <a:ext cx="2743200" cy="1128960"/>
          </a:xfrm>
          <a:prstGeom prst="rect">
            <a:avLst/>
          </a:prstGeom>
          <a:solidFill>
            <a:srgbClr val="006600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8 –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Bronx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2819520" y="4876920"/>
            <a:ext cx="3733560" cy="1646640"/>
          </a:xfrm>
          <a:prstGeom prst="rect">
            <a:avLst/>
          </a:prstGeom>
          <a:solidFill>
            <a:srgbClr val="5f5f5f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3-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uspension Spa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oval of Stiffening Tru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ation of Wind Fai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Roadway D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inting of To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6095880" y="1055520"/>
            <a:ext cx="2743200" cy="1128960"/>
          </a:xfrm>
          <a:prstGeom prst="rect">
            <a:avLst/>
          </a:prstGeom>
          <a:solidFill>
            <a:srgbClr val="26267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11 –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3200400" y="1332000"/>
            <a:ext cx="2819520" cy="1128960"/>
          </a:xfrm>
          <a:prstGeom prst="rect">
            <a:avLst/>
          </a:prstGeom>
          <a:solidFill>
            <a:srgbClr val="99003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EYOND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spender Rope Replacement, Main Cable Rehab. and Toll Pl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31"/>
          <p:cNvCxnSpPr>
            <a:stCxn id="66" idx="2"/>
          </p:cNvCxnSpPr>
          <p:nvPr/>
        </p:nvCxnSpPr>
        <p:spPr>
          <a:xfrm flipH="1">
            <a:off x="6400080" y="2193840"/>
            <a:ext cx="1067400" cy="1388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69" name="Straight Arrow Connector 33"/>
          <p:cNvCxnSpPr>
            <a:stCxn id="64" idx="2"/>
          </p:cNvCxnSpPr>
          <p:nvPr/>
        </p:nvCxnSpPr>
        <p:spPr>
          <a:xfrm>
            <a:off x="1752480" y="2193840"/>
            <a:ext cx="1067760" cy="14644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70" name="Straight Arrow Connector 38"/>
          <p:cNvCxnSpPr>
            <a:stCxn id="65" idx="0"/>
          </p:cNvCxnSpPr>
          <p:nvPr/>
        </p:nvCxnSpPr>
        <p:spPr>
          <a:xfrm flipH="1" flipV="1">
            <a:off x="3504600" y="3656880"/>
            <a:ext cx="118188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triangle" w="med"/>
          </a:ln>
        </p:spPr>
      </p:cxnSp>
      <p:cxnSp>
        <p:nvCxnSpPr>
          <p:cNvPr id="71" name="Straight Arrow Connector 40"/>
          <p:cNvCxnSpPr/>
          <p:nvPr/>
        </p:nvCxnSpPr>
        <p:spPr>
          <a:xfrm flipV="1">
            <a:off x="4723200" y="3656880"/>
            <a:ext cx="114372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stealth" w="lg"/>
          </a:ln>
        </p:spPr>
      </p:cxnSp>
      <p:sp>
        <p:nvSpPr>
          <p:cNvPr id="72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9BE4-6F42-4937-B35C-41C070880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868320"/>
            <a:ext cx="838188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Queens Approach Project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erial view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0988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6" name="Text Box 5"/>
          <p:cNvSpPr/>
          <p:nvPr/>
        </p:nvSpPr>
        <p:spPr>
          <a:xfrm>
            <a:off x="1447920" y="2286000"/>
            <a:ext cx="1898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3716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2860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1371600" y="312408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295280" y="2514600"/>
            <a:ext cx="38124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1295280" y="251460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914400" y="5257800"/>
            <a:ext cx="7313760" cy="8380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H="1">
            <a:off x="7696080" y="4495680"/>
            <a:ext cx="5335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7848720" y="2590920"/>
            <a:ext cx="6094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1371600" y="3352680"/>
            <a:ext cx="5029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 flipV="1">
            <a:off x="6400800" y="2742840"/>
            <a:ext cx="16765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6400800" y="3352680"/>
            <a:ext cx="16002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486240" y="2971800"/>
            <a:ext cx="1758240" cy="36828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ject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62EC-5481-44A9-89BE-49D7B5489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4960" y="4114800"/>
            <a:ext cx="2276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ens Anch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762120" y="3733920"/>
            <a:ext cx="4572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97840" y="4419720"/>
            <a:ext cx="279576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testone Express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V="1">
            <a:off x="5943600" y="4038120"/>
            <a:ext cx="45720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260320" y="2133720"/>
            <a:ext cx="254124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 Island Park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7772400" y="2362320"/>
            <a:ext cx="53352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4038480"/>
            <a:ext cx="50292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tructed in 193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tensive recurring needs for roadway repairs and temporary steel rep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rrow l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shou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 designed for current traffic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meet current Seismic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EX"/>
          <p:cNvPicPr/>
          <p:nvPr/>
        </p:nvPicPr>
        <p:blipFill>
          <a:blip r:embed="rId1"/>
          <a:stretch/>
        </p:blipFill>
        <p:spPr>
          <a:xfrm>
            <a:off x="4876920" y="152280"/>
            <a:ext cx="4038480" cy="147492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sp>
        <p:nvSpPr>
          <p:cNvPr id="98" name="Text Box 8"/>
          <p:cNvSpPr/>
          <p:nvPr/>
        </p:nvSpPr>
        <p:spPr>
          <a:xfrm>
            <a:off x="561924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1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00012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472800" y="838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9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Queens Approach4"/>
          <p:cNvPicPr/>
          <p:nvPr/>
        </p:nvPicPr>
        <p:blipFill>
          <a:blip r:embed="rId2"/>
          <a:stretch/>
        </p:blipFill>
        <p:spPr>
          <a:xfrm>
            <a:off x="5105520" y="1676520"/>
            <a:ext cx="3692520" cy="492264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2" name="Rectangle 8"/>
          <p:cNvSpPr/>
          <p:nvPr/>
        </p:nvSpPr>
        <p:spPr>
          <a:xfrm>
            <a:off x="304920" y="228600"/>
            <a:ext cx="4419360" cy="33732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ditions: Existing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IMG_6374"/>
          <p:cNvPicPr/>
          <p:nvPr/>
        </p:nvPicPr>
        <p:blipFill>
          <a:blip r:embed="rId3"/>
          <a:stretch/>
        </p:blipFill>
        <p:spPr>
          <a:xfrm>
            <a:off x="380880" y="762120"/>
            <a:ext cx="4267440" cy="320040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306F-7664-49DF-BD43-E0FF70B11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BW-89_CrossSection"/>
          <p:cNvPicPr/>
          <p:nvPr/>
        </p:nvPicPr>
        <p:blipFill>
          <a:blip r:embed="rId1"/>
          <a:stretch/>
        </p:blipFill>
        <p:spPr>
          <a:xfrm>
            <a:off x="5105520" y="1219320"/>
            <a:ext cx="3504960" cy="3422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grpSp>
        <p:nvGrpSpPr>
          <p:cNvPr id="106" name="Group 25"/>
          <p:cNvGrpSpPr/>
          <p:nvPr/>
        </p:nvGrpSpPr>
        <p:grpSpPr>
          <a:xfrm>
            <a:off x="5638680" y="1295280"/>
            <a:ext cx="1162440" cy="382680"/>
            <a:chOff x="5638680" y="1295280"/>
            <a:chExt cx="1162440" cy="382680"/>
          </a:xfrm>
        </p:grpSpPr>
        <p:sp>
          <p:nvSpPr>
            <p:cNvPr id="107" name="Line 14"/>
            <p:cNvSpPr/>
            <p:nvPr/>
          </p:nvSpPr>
          <p:spPr>
            <a:xfrm>
              <a:off x="563868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5"/>
            <p:cNvSpPr/>
            <p:nvPr/>
          </p:nvSpPr>
          <p:spPr>
            <a:xfrm>
              <a:off x="6019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6"/>
            <p:cNvSpPr/>
            <p:nvPr/>
          </p:nvSpPr>
          <p:spPr>
            <a:xfrm>
              <a:off x="6400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>
              <a:off x="67820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563868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0"/>
            <p:cNvSpPr/>
            <p:nvPr/>
          </p:nvSpPr>
          <p:spPr>
            <a:xfrm>
              <a:off x="565704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1"/>
            <p:cNvSpPr/>
            <p:nvPr/>
          </p:nvSpPr>
          <p:spPr>
            <a:xfrm>
              <a:off x="6037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3"/>
            <p:cNvSpPr/>
            <p:nvPr/>
          </p:nvSpPr>
          <p:spPr>
            <a:xfrm>
              <a:off x="641916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6"/>
          <p:cNvGrpSpPr/>
          <p:nvPr/>
        </p:nvGrpSpPr>
        <p:grpSpPr>
          <a:xfrm>
            <a:off x="7048440" y="1295280"/>
            <a:ext cx="1162440" cy="382680"/>
            <a:chOff x="7048440" y="1295280"/>
            <a:chExt cx="1162440" cy="382680"/>
          </a:xfrm>
        </p:grpSpPr>
        <p:sp>
          <p:nvSpPr>
            <p:cNvPr id="116" name="Line 10"/>
            <p:cNvSpPr/>
            <p:nvPr/>
          </p:nvSpPr>
          <p:spPr>
            <a:xfrm>
              <a:off x="8191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>
              <a:off x="7810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742932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>
              <a:off x="70484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9"/>
            <p:cNvSpPr/>
            <p:nvPr/>
          </p:nvSpPr>
          <p:spPr>
            <a:xfrm>
              <a:off x="704844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4"/>
            <p:cNvSpPr/>
            <p:nvPr/>
          </p:nvSpPr>
          <p:spPr>
            <a:xfrm>
              <a:off x="706680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5"/>
            <p:cNvSpPr/>
            <p:nvPr/>
          </p:nvSpPr>
          <p:spPr>
            <a:xfrm>
              <a:off x="744768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7828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5029200" y="4727520"/>
            <a:ext cx="35812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PIER/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’ wide lanes with shou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685800" y="304920"/>
            <a:ext cx="7696080" cy="76176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ture Newly Constructed Queen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Offshore_Proposed"/>
          <p:cNvPicPr/>
          <p:nvPr/>
        </p:nvPicPr>
        <p:blipFill>
          <a:blip r:embed="rId2"/>
          <a:stretch/>
        </p:blipFill>
        <p:spPr>
          <a:xfrm>
            <a:off x="1600200" y="1219320"/>
            <a:ext cx="3327480" cy="249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7" name="Freeform 30"/>
          <p:cNvSpPr/>
          <p:nvPr/>
        </p:nvSpPr>
        <p:spPr>
          <a:xfrm>
            <a:off x="2933640" y="1849320"/>
            <a:ext cx="2465280" cy="1108080"/>
          </a:xfrm>
          <a:custGeom>
            <a:avLst/>
            <a:gdLst/>
            <a:ahLst/>
            <a:rect l="l" t="t" r="r" b="b"/>
            <a:pathLst>
              <a:path w="2464905" h="1107882">
                <a:moveTo>
                  <a:pt x="0" y="1107882"/>
                </a:moveTo>
                <a:cubicBezTo>
                  <a:pt x="64935" y="955482"/>
                  <a:pt x="129871" y="803082"/>
                  <a:pt x="238539" y="662609"/>
                </a:cubicBezTo>
                <a:cubicBezTo>
                  <a:pt x="347207" y="522136"/>
                  <a:pt x="502257" y="368411"/>
                  <a:pt x="652007" y="265044"/>
                </a:cubicBezTo>
                <a:cubicBezTo>
                  <a:pt x="801757" y="161677"/>
                  <a:pt x="987287" y="84814"/>
                  <a:pt x="1137037" y="42407"/>
                </a:cubicBezTo>
                <a:cubicBezTo>
                  <a:pt x="1286787" y="0"/>
                  <a:pt x="1414008" y="3976"/>
                  <a:pt x="1550505" y="10602"/>
                </a:cubicBezTo>
                <a:cubicBezTo>
                  <a:pt x="1687002" y="17228"/>
                  <a:pt x="1856630" y="56985"/>
                  <a:pt x="1956021" y="82164"/>
                </a:cubicBezTo>
                <a:cubicBezTo>
                  <a:pt x="2055412" y="107343"/>
                  <a:pt x="2062038" y="117945"/>
                  <a:pt x="2146852" y="161677"/>
                </a:cubicBezTo>
                <a:cubicBezTo>
                  <a:pt x="2231666" y="205409"/>
                  <a:pt x="2348285" y="274983"/>
                  <a:pt x="2464905" y="344557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4261-2EBA-4317-BCD7-445359209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938760"/>
            <a:ext cx="4572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THE ENTIRE 1,010 FT QUEENS APPROACH VIADU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Construct New Foundations &amp; Pi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done under Roadway – no traffic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 thru Mid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Staged Replacement of Roadway while maintain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rly 2012 – Late 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Demolish existing piers/perform ground level site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under Roadway – no traffic 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F9DD-4A5F-43A8-BE3C-23E8EC448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28600" y="274680"/>
            <a:ext cx="8763120" cy="639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itigation Built into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457200"/>
            <a:ext cx="83059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 from ongoing Bronx Approach 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M of preparatory construction already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pre-construction outreach with community, elected officials, and other City and State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Traffic Enforcement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mitigation measure – Temporary closure of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enue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oordination of Capit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on Task Budget:                      $240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ineer’s Estimate:                                 $179,00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                                                      $109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vs. Budget                                    $131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struction Cost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84A9-7833-4D20-9183-05D37B1DA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6E05-D0F2-4E6E-9704-437A3C413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isk Assessment Results (Post b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uction Co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Bid/ Schedu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$109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1M/ 5mo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$130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ject Cost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ion, CSS, Inspection, etc.          $135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7M/ 5 mo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$162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Distribution for Remaining Total Project Escala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0" t="0" r="0" b="8524"/>
          <a:stretch/>
        </p:blipFill>
        <p:spPr>
          <a:xfrm>
            <a:off x="457200" y="1814400"/>
            <a:ext cx="8229600" cy="3748320"/>
          </a:xfrm>
          <a:prstGeom prst="rect">
            <a:avLst/>
          </a:prstGeom>
          <a:ln w="0">
            <a:noFill/>
          </a:ln>
        </p:spPr>
      </p:pic>
      <p:cxnSp>
        <p:nvCxnSpPr>
          <p:cNvPr id="141" name="Straight Arrow Connector 4"/>
          <p:cNvCxnSpPr/>
          <p:nvPr/>
        </p:nvCxnSpPr>
        <p:spPr>
          <a:xfrm>
            <a:off x="1980720" y="2819520"/>
            <a:ext cx="2134440" cy="2160"/>
          </a:xfrm>
          <a:prstGeom prst="straightConnector1">
            <a:avLst/>
          </a:prstGeom>
          <a:ln w="3816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cxnSp>
        <p:nvCxnSpPr>
          <p:cNvPr id="142" name="Straight Arrow Connector 6"/>
          <p:cNvCxnSpPr/>
          <p:nvPr/>
        </p:nvCxnSpPr>
        <p:spPr>
          <a:xfrm flipH="1">
            <a:off x="4114440" y="2972880"/>
            <a:ext cx="2160" cy="2056680"/>
          </a:xfrm>
          <a:prstGeom prst="straightConnector1">
            <a:avLst/>
          </a:prstGeom>
          <a:ln w="3492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sp>
        <p:nvSpPr>
          <p:cNvPr id="143" name="Oval 11"/>
          <p:cNvSpPr/>
          <p:nvPr/>
        </p:nvSpPr>
        <p:spPr>
          <a:xfrm>
            <a:off x="3581280" y="5029200"/>
            <a:ext cx="99072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6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276720" y="56386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Project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22:03:38Z</dcterms:created>
  <dc:creator>tlewis</dc:creator>
  <dc:description/>
  <dc:language>en-US</dc:language>
  <cp:lastModifiedBy>csaladin</cp:lastModifiedBy>
  <dcterms:modified xsi:type="dcterms:W3CDTF">2011-05-18T16:42:14Z</dcterms:modified>
  <cp:revision>284</cp:revision>
  <dc:subject/>
  <dc:title>Slide 1</dc:title>
</cp:coreProperties>
</file>